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70B-C88D-4161-8CC5-F70F9C02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476-977E-4457-AA34-699DF609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F52-8D15-4994-8EDB-14EC9CC8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2EF-2091-4EEF-B0A7-90DE1CAC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634-1FD0-4290-8823-84107A3E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DF3-2808-4B7E-8F72-3EFC211F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B73-1C23-499F-A9B3-58AF3D5F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2A6-788A-4BFA-AFDB-AB1E804B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EE1-D27A-4CD3-92DD-AFAF73DD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AA7-3166-468E-9B1B-5B282807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FBF-CFEF-4F70-A810-1ECF55DF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FCD-CC33-4C23-9CE0-EDBE893E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7918-D4F3-44C4-B662-1E7A07CFB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 Je veľký náš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eľký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lávy je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do všetkých strán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 vrúcnych znie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d celým vesmírom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ádu má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lášť na náš svet pamätá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áňa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ej moci zvesť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šíri sa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Tvorcovi česť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 každý rád vz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halí tma obzo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hromu znie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v tom zas len Láska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osloviť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šetkých chce v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Slovom, čo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vďaka mu,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zácny ten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vorstva Pán, Pria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asiteľ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láskavo nad sve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ží vždy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o náš svet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vládne v ňom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láske nás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d nami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omu, kto tú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spásou sa st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 milosti večný 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raz d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40:57Z</dcterms:modified>
  <cp:revision>6</cp:revision>
  <dc:subject/>
  <dc:title>Je veľký náš Pán, on slávy je Kráľ Nech do všetkých strán  spev vrúcnych znie chvál.</dc:title>
</cp:coreProperties>
</file>